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7FD0-3D82-49D3-BD19-BC7E53CD7E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4B4C-953F-4F2E-962D-50422ECC92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карти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B9D0-96E9-4943-A772-B03C18B5ACE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D3D-DA0A-452A-83F7-2ED212AB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D4D-7BD6-4DD1-BA17-AD8AA40D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5C6-57F1-4040-8F01-E7243C9E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A65-2119-49E5-B763-C4913D17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1C7B-B814-45E9-8981-31BD865A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90EA-D5DB-4A03-9BE9-2724D5D8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9A4A-280B-4E46-B873-218BA16B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459A-8C6E-4BEE-BFDE-ACCDB462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96F8-0AE5-4CBA-B53A-8A6BEFBC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792A-F331-484E-A509-901D88D3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FB0A-FED5-492F-9C1A-A4178986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3E4-B5D9-4B03-8E40-CE6EAAA8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F835-D7C3-43BD-BE8F-62BE0FD5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AD53-1516-4A6D-B307-793B34A6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13DE-0AE9-411C-9CB2-C1D3A5E7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22D2-BF58-4E24-98AD-1B08FBFA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EADC-05D8-4682-BED7-87F0814F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5E3-A890-4021-B9D3-13FA960E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055-7996-4E54-91C7-A6753951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614-E132-4D86-A9B6-0A122EF2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1C2-62C9-4D39-BA45-4575350F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047-F242-4D33-92EC-76F3F718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25F-E7C0-4FD9-9DE0-C9F5E137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01F-B224-4C37-811B-D7FCBCEF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CDD4-DFAC-45C9-A138-DE4669D3A2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D010-7675-48D0-9C0A-E37EF43054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vagamza@fa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179280" y="5589720"/>
            <a:ext cx="8686080" cy="1008720"/>
            <a:chOff x="179280" y="5589720"/>
            <a:chExt cx="8686080" cy="1008720"/>
          </a:xfrm>
        </p:grpSpPr>
        <p:sp>
          <p:nvSpPr>
            <p:cNvPr id="90" name="Line 3"/>
            <p:cNvSpPr/>
            <p:nvPr/>
          </p:nvSpPr>
          <p:spPr>
            <a:xfrm>
              <a:off x="352440" y="5589720"/>
              <a:ext cx="81658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179280" y="5589720"/>
              <a:ext cx="8686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Финансовая академия при Правительстве Российской Федераци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Москва-201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Rectangle 5"/>
          <p:cNvSpPr/>
          <p:nvPr/>
        </p:nvSpPr>
        <p:spPr>
          <a:xfrm>
            <a:off x="0" y="214200"/>
            <a:ext cx="844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А. Гам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ститут финансово-экономических исследов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547640" y="263700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лг и резерв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лемы оптимального соотно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10" descr="images (2).jpg"/>
          <p:cNvPicPr/>
          <p:nvPr/>
        </p:nvPicPr>
        <p:blipFill>
          <a:blip r:embed="rId1"/>
          <a:stretch/>
        </p:blipFill>
        <p:spPr>
          <a:xfrm>
            <a:off x="8286840" y="214200"/>
            <a:ext cx="60012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Object 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Object 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Object 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5851440"/>
            <a:ext cx="9143280" cy="1008720"/>
            <a:chOff x="0" y="5851440"/>
            <a:chExt cx="9143280" cy="1008720"/>
          </a:xfrm>
        </p:grpSpPr>
        <p:sp>
          <p:nvSpPr>
            <p:cNvPr id="139" name="Line 3"/>
            <p:cNvSpPr/>
            <p:nvPr/>
          </p:nvSpPr>
          <p:spPr>
            <a:xfrm>
              <a:off x="182160" y="5851440"/>
              <a:ext cx="85957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>
              <a:off x="0" y="5851440"/>
              <a:ext cx="9143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Финансовая академия при Правительстве Российской Федераци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Москва-201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Rectangle 6"/>
          <p:cNvSpPr/>
          <p:nvPr/>
        </p:nvSpPr>
        <p:spPr>
          <a:xfrm>
            <a:off x="0" y="714240"/>
            <a:ext cx="914400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ши комментарии и предло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ьба направлять в Институт финансово-экономических исследовани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agamza@fa.ru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л. +7(499)943-93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Москва, Ленинградский пр-т, 49, к. 22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Object 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Object 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Object 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Object 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Object 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8:02:31Z</dcterms:created>
  <dc:creator>1</dc:creator>
  <dc:description/>
  <dc:language>en-US</dc:language>
  <cp:lastModifiedBy>Vsbolshakov</cp:lastModifiedBy>
  <dcterms:modified xsi:type="dcterms:W3CDTF">2010-04-02T06:32:18Z</dcterms:modified>
  <cp:revision>5</cp:revision>
  <dc:subject/>
  <dc:title>Слайд 1</dc:title>
</cp:coreProperties>
</file>